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E018-410E-43E8-84B8-928AB628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C50-A4FE-444B-B5D5-A304600B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B13-4B57-40A4-87CC-BA955A9F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FDA8-CC41-47B4-BD24-347B61E5B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 is the potential E during the transi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F6CF-727D-4AE4-927C-3CE2BAEF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ps.prenhall.com/esm_freeman_biosci_1/7/1946/498371.cw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548-9438-4418-9811-7DA9AE634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DDCE-E52E-4E76-807C-2C234B92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more stable than react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le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t 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D0B8-80F5-41C6-8BE6-9EB3473EF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are more stable tha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nergy absorbed (to break bonds) than released (to form bo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energy absor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F1BC-973A-49A7-B30C-D6B90AE0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CE4E-E895-4DE7-9EBA-6F381899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F64-23D9-418A-B15F-095F2EE7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 http://www.chegg.com/homework-help/substance-greatest-entropy-h2o-l-h2o-g-explain-reasoningfigu-chapter-7-problem-4-solution-9780073402628-ex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E554-116D-46A4-BEB2-A8F72931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FD9-07AB-406D-8B43-330806E5E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A9E4-7FEB-488B-B5C2-CBC45F06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hemical reactions, entropy increases when disorder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5CE7-219E-4558-9D72-01CC5580F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Table 2 on page 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9545-A8A9-4B2E-B012-68509B70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FA98-2D83-4B7E-A869-9DCC1D84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296-F463-4714-8040-8FFB294C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C4DB-7D7B-4BA9-9A92-615ABA2F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290A-8C2F-4434-AD48-36F543733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DE91-FEEC-411B-82EE-A374B26E4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at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FC1E-2093-411B-BF45-CE5A6003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octortee.com/dsu/tiftickjian/bio100/enzym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F589-9975-4E51-B9D3-8FBD7991C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un.menloschool.org/~dspence/biology/chapter4/chapt4_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C126-D897-4AB9-948B-39434118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25F-DC05-471B-96C9-3ABE3519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A1F8-035F-456A-A023-3F962CE6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etic energy - energy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- stored energy (due to location or pos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273E-77CE-4499-B668-D826E950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energy --&gt; Chemical Potential Energy (+ 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493-76FB-44C6-9032-1A48A771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carbs_lipids_proteins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EB44-402E-4BC8-98D4-BA23A8F3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of electrons relative to their distance &amp; attraction to nuclei of various atoms in a molecule;  strong attraction…less potenti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ADE-5D9C-4323-87CE-5C2B76434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E :  How much E is needed to break a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E0F3-4FA2-41B8-BA3B-D907F2E46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from: http://butane.chem.uiuc.edu/pshapley/environmental/l14/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675-3597-47AE-AEC5-F4019859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572-D946-47C1-83AE-9B7080B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D7E-3C54-49E9-83CD-FAA3E05A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334-E553-4836-B24C-E45DB2FE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211-7D45-44ED-B0ED-B55E826D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A88-088E-4256-833D-8660759D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588-A171-41A8-9628-484381BD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56C-0766-4B7D-AEB4-7A0A59A5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19C-D480-4FF6-88C1-37709F3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055-2128-42CE-81EB-67F9AAF5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DA8-A32A-4E7E-935F-22D1687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EB7-7DA0-44CC-9B71-F0AF531E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CB3-7BBC-4F3F-B6C4-3ADE1BC73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sm &amp;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p.130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rough the calculations of the sample problems in the tutorial…and try Practice #1 &amp; 2 on page 1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energy required to break bonds in reactants and start the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reduce the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hemical reactions (see 3.3 in text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G03_12FR"/>
          <p:cNvPicPr/>
          <p:nvPr/>
        </p:nvPicPr>
        <p:blipFill>
          <a:blip r:embed="rId1"/>
          <a:stretch/>
        </p:blipFill>
        <p:spPr>
          <a:xfrm>
            <a:off x="685800" y="747720"/>
            <a:ext cx="77724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halpy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) is the heat content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halpy of re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the overall heat change of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thermic: 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∆H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0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thermic: ∆H po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1409760" y="1994040"/>
            <a:ext cx="6210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or not a reaction occurs spontaneously depends not only on enthalpy change (∆H), but also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nd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very energy conversion, some of the useful energy in the system becomes unusable, and increase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opy 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r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) is a measure of the degre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dom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emical and physical process involves a change in the entropy of the system (∆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5" descr="6157-7-4I1.png"/>
          <p:cNvPicPr/>
          <p:nvPr/>
        </p:nvPicPr>
        <p:blipFill>
          <a:blip r:embed="rId1"/>
          <a:srcRect l="-55796" t="0" r="-55796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etabo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all reactions in a cell o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abo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tions buil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tabo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tions break dow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 in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s --&gt; liquids/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s --&gt;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reactant molecules --&gt; more product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es move from area of high concentration to area of low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Rea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66680" y="1828800"/>
          <a:ext cx="7086600" cy="4635360"/>
        </p:xfrm>
        <a:graphic>
          <a:graphicData uri="http://schemas.openxmlformats.org/drawingml/2006/table">
            <a:tbl>
              <a:tblPr/>
              <a:tblGrid>
                <a:gridCol w="1981440"/>
                <a:gridCol w="2514600"/>
                <a:gridCol w="2590560"/>
              </a:tblGrid>
              <a:tr h="137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thermi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avoured by E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nega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thermi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t favoured)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posi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avoured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posi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 spontane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low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; spontaneous at high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 in entrop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ot favoured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negat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 at high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; spontanteous at low 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ontaneous;  always requires net input of E to occu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hat is available to do work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reaction at temperature T, the change in free energy, ∆G is given by the equation: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57150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lt; 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eaction is spontaneous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gonic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&gt; 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eaction is not spontaneou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ergonic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∆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= 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eaction is at equilibrium and there is no net change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s Free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ecomposi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-&gt;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H = +484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 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n-spont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is increasing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emperature is high enough, reaction will proceed.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∆G = ∆H - T∆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urrency of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in every living organism use the same energy carrier (ATP) for almost all E-requiring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atpmol"/>
          <p:cNvPicPr/>
          <p:nvPr/>
        </p:nvPicPr>
        <p:blipFill>
          <a:blip r:embed="rId1"/>
          <a:stretch/>
        </p:blipFill>
        <p:spPr>
          <a:xfrm>
            <a:off x="1571760" y="1981080"/>
            <a:ext cx="6000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tp-cycle"/>
          <p:cNvPicPr/>
          <p:nvPr/>
        </p:nvPicPr>
        <p:blipFill>
          <a:blip r:embed="rId1"/>
          <a:stretch/>
        </p:blipFill>
        <p:spPr>
          <a:xfrm>
            <a:off x="1355760" y="1981080"/>
            <a:ext cx="64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ou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oupled_react"/>
          <p:cNvPicPr/>
          <p:nvPr/>
        </p:nvPicPr>
        <p:blipFill>
          <a:blip r:embed="rId1"/>
          <a:stretch/>
        </p:blipFill>
        <p:spPr>
          <a:xfrm>
            <a:off x="1241280" y="1981080"/>
            <a:ext cx="665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organisms must obtain, store, and use energy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apac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ransfer of energy from one body or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cells use AT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use other energy-rich molecules di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nageable amount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s able to couple with many different endergonic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vailability compared to othe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able in a singl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the universe can be transferred or transformed, but not created or destr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s of energy transfer occur in living organis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ydrolysis_reaction"/>
          <p:cNvPicPr/>
          <p:nvPr/>
        </p:nvPicPr>
        <p:blipFill>
          <a:blip r:embed="rId1"/>
          <a:stretch/>
        </p:blipFill>
        <p:spPr>
          <a:xfrm>
            <a:off x="2354400" y="1981080"/>
            <a:ext cx="443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broken            (E absorb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s must be formed            (E rele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d 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s the strength/stability of a covalent bond (kJ/m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e Table 1 on page 1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3"/>
          <p:cNvPicPr/>
          <p:nvPr/>
        </p:nvPicPr>
        <p:blipFill>
          <a:blip r:embed="rId1"/>
          <a:stretch/>
        </p:blipFill>
        <p:spPr>
          <a:xfrm>
            <a:off x="685800" y="731880"/>
            <a:ext cx="77724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3:37:05Z</dcterms:created>
  <dc:creator>rubina khan</dc:creator>
  <dc:description/>
  <dc:language>en-US</dc:language>
  <cp:lastModifiedBy>rubina khan</cp:lastModifiedBy>
  <cp:lastPrinted>2010-04-22T10:04:17Z</cp:lastPrinted>
  <dcterms:modified xsi:type="dcterms:W3CDTF">2015-10-06T17:54:09Z</dcterms:modified>
  <cp:revision>187</cp:revision>
  <dc:subject/>
  <dc:title>Introduction to Metabolism</dc:title>
</cp:coreProperties>
</file>